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type.wav" ContentType="audio/x-wav"/>
  <Override PartName="/ppt/media/image4.jpeg" ContentType="image/jpeg"/>
  <Override PartName="/ppt/media/image8.gif" ContentType="image/gi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D5E-4238-4AAC-92D7-B6167B63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9B0-C2EB-485E-AD90-056D6E2E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B04-89B7-43DB-8603-E8F6C00F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9F1-921A-4E74-9147-291F998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E02-2558-4192-B1BB-0083C13D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47F-26F6-4908-BB08-042653C9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C50-5039-46C1-B9FA-37CDA0D5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986-C2C9-480C-BEDC-0DE2077C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69D-3C9A-484D-8C28-D8C6D287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280-07EE-4ECD-8DA2-AA554F9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B17-837B-4426-9895-7841485C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4FD-FBAA-4321-8875-4BA04E0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d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FD95-9C99-44BC-8DBE-40CDDFB92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look a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Star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stare happ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Glar.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; G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5146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3333cc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A Person who tells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A story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 ;Not a story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story 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;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9240" y="2066760"/>
            <a:ext cx="1508040" cy="18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49840" y="4321080"/>
            <a:ext cx="1806480" cy="1568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3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to take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take nice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Take  some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bor  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296712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967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full of  happy 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ake nic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 e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Take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19974600">
            <a:off x="5121000" y="1755360"/>
            <a:ext cx="33526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d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To shake you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To 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Don’t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chatt. er.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; ch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;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65760" y="533520"/>
            <a:ext cx="336240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; 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; Not to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; li b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24098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d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8-10-29T16:01:11Z</dcterms:modified>
  <cp:revision>15</cp:revision>
  <dc:subject/>
  <dc:title>PowerPoint Presentation</dc:title>
</cp:coreProperties>
</file>